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84BC-85F7-437F-9B9F-E07D7A175F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F68C-70E7-435F-B388-1FA5124C71E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284-D5A7-4FDE-9435-B2014FF6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0EF-A671-4293-9E97-CF29FA25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941-E893-4244-B44B-87E8A876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AA8-8AF1-483F-A474-A554F8C4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BE8-EDC4-43B1-AB39-971087F7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7B5-5B1E-4118-8256-590DC349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94C-381B-4D00-B61B-5558866B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48A-2FE8-4565-8862-36FEB1CA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6F1-5840-4208-968B-827784DF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3DA-3BE9-4557-A870-13DC26B3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25D-2B9C-4BB1-890E-C27467D9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E5D-3B4A-47D5-898D-A21FB686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A487-998E-4AB9-8EFF-646EBF19396E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35788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 u="sng">
                <a:solidFill>
                  <a:srgbClr val="000000"/>
                </a:solidFill>
                <a:uFillTx/>
                <a:latin typeface="Calibri"/>
              </a:rPr>
              <a:t>Lötverbindung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christian\Desktop\Erklär mal Löten.png"/>
          <p:cNvPicPr/>
          <p:nvPr/>
        </p:nvPicPr>
        <p:blipFill>
          <a:blip r:embed="rId1"/>
          <a:stretch/>
        </p:blipFill>
        <p:spPr>
          <a:xfrm>
            <a:off x="1714680" y="428760"/>
            <a:ext cx="5359320" cy="5060880"/>
          </a:xfrm>
          <a:prstGeom prst="rect">
            <a:avLst/>
          </a:prstGeom>
          <a:ln w="0">
            <a:noFill/>
          </a:ln>
        </p:spPr>
      </p:pic>
      <p:sp>
        <p:nvSpPr>
          <p:cNvPr id="51" name="Datumsplatzhalt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ußzeilenplatzhalt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:\Users\christian\Desktop\4FormelKomplett.JPG"/>
          <p:cNvPicPr/>
          <p:nvPr/>
        </p:nvPicPr>
        <p:blipFill>
          <a:blip r:embed="rId1"/>
          <a:stretch/>
        </p:blipFill>
        <p:spPr>
          <a:xfrm>
            <a:off x="5580000" y="3857760"/>
            <a:ext cx="4294080" cy="30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christian\Desktop\2FormelKomplett.JPG"/>
          <p:cNvPicPr/>
          <p:nvPr/>
        </p:nvPicPr>
        <p:blipFill>
          <a:blip r:embed="rId2"/>
          <a:stretch/>
        </p:blipFill>
        <p:spPr>
          <a:xfrm>
            <a:off x="5580000" y="1484280"/>
            <a:ext cx="4038840" cy="2311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Formeln zur Berechnung von Lötverbind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2560" y="1928880"/>
            <a:ext cx="764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cherspannung        :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K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F  /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orsionsmoment      :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2 * K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nen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/ (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d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ü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umsplatzhalter 7"/>
          <p:cNvSpPr/>
          <p:nvPr/>
        </p:nvSpPr>
        <p:spPr>
          <a:xfrm>
            <a:off x="457200" y="6356520"/>
            <a:ext cx="2900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Bilder: BS-WIKI Lötverbind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ußzeilenplatzhalt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Faustwerte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28800" y="1500120"/>
            <a:ext cx="77580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ötverbindungen zwischen zwei Baustählen, die vorwiegend ruhenden Belastung ausgesetzt sind, können mit den folgenden „Faustwerten“ berechnet  werde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artlötverbindu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zu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B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/ S ≈200N/mm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zu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τ 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B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/ S ≈100N/mm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Weichlötverbindu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zu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B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/ S = 2N/mm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umsplatzhalter 4"/>
          <p:cNvSpPr/>
          <p:nvPr/>
        </p:nvSpPr>
        <p:spPr>
          <a:xfrm>
            <a:off x="457200" y="6356520"/>
            <a:ext cx="2328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Nach  R/M TB 5-9 (Hinwe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ußzeilenplatzhalt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Textplatzhalter 2"/>
          <p:cNvGraphicFramePr/>
          <p:nvPr/>
        </p:nvGraphicFramePr>
        <p:xfrm>
          <a:off x="755640" y="2781360"/>
          <a:ext cx="6121440" cy="32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Textplatzhalt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81360"/>
                    <a:ext cx="612144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0000"/>
                </a:solidFill>
                <a:uFillTx/>
                <a:latin typeface="Calibri"/>
              </a:rPr>
              <a:t>Viel Spaß Herr Jennert</a:t>
            </a:r>
            <a:br>
              <a:rPr sz="4000"/>
            </a:br>
            <a:r>
              <a:rPr b="0" lang="de-DE" sz="4000" spc="-1" strike="noStrike" u="sng">
                <a:solidFill>
                  <a:srgbClr val="000000"/>
                </a:solidFill>
                <a:uFillTx/>
                <a:latin typeface="Calibri"/>
              </a:rPr>
              <a:t>Viel Spaß Herr Ber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96000" y="3068640"/>
            <a:ext cx="3348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1/ISO 18279-C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1044-Ag3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116000" y="1600200"/>
            <a:ext cx="35323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Ar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eichlöten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ennzahl 94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       WL   (unter 450°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Hartlöten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ennzahl 91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       HL    (über   450°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Hochtemperaturlöten       HTL  (über   900°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umsplatzhalt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ußzeilenplatzhalt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Anwendungsgebi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9680" y="1928520"/>
            <a:ext cx="82868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L: Dosen, Kühler, elektrische Kontak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HL: Fahrzeugrahmen, Rohrflans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HTL: Fügen von Stahl, Nickel- und Cobaltlegierungen im Gasturbinenbau und in der Vakuumtechnik (alles flussmittelfrei im Vakuum oder unter Schutzgasatmosphär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atumsplatzhalt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ußzeilenplatzhalt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Vorgänge beim Lö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6237000"/>
            <a:ext cx="31687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Bild: BS-WIKI Lötverbindu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484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öten ist ein stoffschlüssiges Fügeverfah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umsplatzhalt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ußzeilenplatzhalt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50920" y="2349360"/>
          <a:ext cx="560880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349360"/>
                    <a:ext cx="560880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Gestalten einer Lötverbindu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christian\Desktop\Matek 1.jpg"/>
          <p:cNvPicPr/>
          <p:nvPr/>
        </p:nvPicPr>
        <p:blipFill>
          <a:blip r:embed="rId1"/>
          <a:stretch/>
        </p:blipFill>
        <p:spPr>
          <a:xfrm>
            <a:off x="420840" y="2327400"/>
            <a:ext cx="8294400" cy="3911400"/>
          </a:xfrm>
          <a:prstGeom prst="rect">
            <a:avLst/>
          </a:prstGeom>
          <a:ln w="0">
            <a:noFill/>
          </a:ln>
        </p:spPr>
      </p:pic>
      <p:sp>
        <p:nvSpPr>
          <p:cNvPr id="72" name="Datumsplatzhalt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Bild R/M 5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ußzeilenplatzhalt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Users\christian\Desktop\Matek 3.jpg"/>
          <p:cNvPicPr/>
          <p:nvPr/>
        </p:nvPicPr>
        <p:blipFill>
          <a:blip r:embed="rId1"/>
          <a:stretch/>
        </p:blipFill>
        <p:spPr>
          <a:xfrm>
            <a:off x="4572000" y="1071720"/>
            <a:ext cx="4572000" cy="4903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christian\Desktop\Matek 2.jpg"/>
          <p:cNvPicPr/>
          <p:nvPr/>
        </p:nvPicPr>
        <p:blipFill>
          <a:blip r:embed="rId2"/>
          <a:stretch/>
        </p:blipFill>
        <p:spPr>
          <a:xfrm>
            <a:off x="0" y="1714680"/>
            <a:ext cx="4587840" cy="3571560"/>
          </a:xfrm>
          <a:prstGeom prst="rect">
            <a:avLst/>
          </a:prstGeom>
          <a:ln w="0">
            <a:noFill/>
          </a:ln>
        </p:spPr>
      </p:pic>
      <p:sp>
        <p:nvSpPr>
          <p:cNvPr id="81" name="Datumsplatzhalt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Bilder R/M 5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ußzeilenplatzhalt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ymbolische Darstel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4652640"/>
            <a:ext cx="44956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d: R/M 5-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Textplatzhalter 2"/>
          <p:cNvGraphicFramePr/>
          <p:nvPr/>
        </p:nvGraphicFramePr>
        <p:xfrm>
          <a:off x="71280" y="2637000"/>
          <a:ext cx="9072720" cy="12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extplatzhalt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637000"/>
                    <a:ext cx="9072720" cy="12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Bei der Konstruktion einer Lötverbindung ist zu beach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42600" y="2143080"/>
            <a:ext cx="82868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ausreichend große Lötflächen (z.B. durch Überlappungen) vorgesehen werde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im Lötstoßbereich keine Biegebeanspruchungen, Spannungskonzentrationen oder geometrische Kerbwirkungseffekte auftrete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Lötnähte möglichst auf Schub beansprucht werde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die Oberflächen der Lötstellen einen Mittenrauhwert von Ra ≤ 12,5μm aufweise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bei geschlossenen Hohlräumen ein Druckausgleich vorhanden is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der Grundwerkstoff , Lot und Flussmittel miteinander „harmoniert“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Datumsplatzhalt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ußzeilenplatzhalt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C:\Users\christian\Desktop\1FormelKomplett.JPG"/>
          <p:cNvPicPr/>
          <p:nvPr/>
        </p:nvPicPr>
        <p:blipFill>
          <a:blip r:embed="rId1"/>
          <a:stretch/>
        </p:blipFill>
        <p:spPr>
          <a:xfrm>
            <a:off x="4572000" y="3645000"/>
            <a:ext cx="4781520" cy="2643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85480" y="1999800"/>
            <a:ext cx="83725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Überlappungslänge  Überlappstoß     : 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ü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≈ R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eckverbindung : 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ü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≈ R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d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ormalspannung     :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= K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nen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/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Formeln zur Berechnung von Lötverbind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atumsplatzhalter 6"/>
          <p:cNvSpPr/>
          <p:nvPr/>
        </p:nvSpPr>
        <p:spPr>
          <a:xfrm>
            <a:off x="457200" y="6356520"/>
            <a:ext cx="27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Bild: BS-WIKI Lötverbind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ußzeilenplatzhalt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7:24:41Z</dcterms:created>
  <dc:creator>christian</dc:creator>
  <dc:description/>
  <dc:language>en-US</dc:language>
  <cp:lastModifiedBy>Jessica  Grote</cp:lastModifiedBy>
  <dcterms:modified xsi:type="dcterms:W3CDTF">2003-06-18T03:01:28Z</dcterms:modified>
  <cp:revision>58</cp:revision>
  <dc:subject/>
  <dc:title>Löten</dc:title>
</cp:coreProperties>
</file>